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vantGarde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D2CC-ECA4-411F-B1D0-64AB0ABAF13E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1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3234-C21C-47C8-A3A3-479E5F0BA9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31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28BA-0EB2-467E-B8B9-002F5E33D01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FC1-167F-4FF9-A4AC-B0D6928A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638-A8D4-49E1-8D83-5D0BEE36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060-94F9-4355-8E07-A4067610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192-1E44-4D2B-AA30-3B40C27F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1F053-A949-4A63-9AD5-DF6A7BA5AF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AF7A3-E2C4-441A-A974-49B9A83D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C842F-AACA-45A3-83DB-295EE003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6975A-9D17-4A77-BED6-460EBD87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0D2EE-EA65-4B4A-B5F1-28D93D4B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4EEE1-2A81-4C25-A18F-04C9E7B5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8F0D0-0039-4D71-AD9C-2ADF8921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834-748C-41CD-B729-CF66DCE2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5FC22-4F7C-4A50-ACD2-25493378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18297-F66A-4E6D-AA6A-ACF1A251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0BC72-2959-4D35-A45F-127FDC53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5641-DAE5-4011-B1FC-07CBDBE2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3918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78E75-9394-489D-83B8-F4FE90FAF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956-17B9-48B5-AE3F-5D398582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26D-F340-45A5-831A-BF38D230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0CD-540B-4F09-9727-EBDF7B0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0B7-0EB1-4709-A6FE-80EEB53D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53F-3CD1-4982-885E-F28DC2D1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918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0A7-D760-4336-B43C-7902FAE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5AC-A69B-426C-8204-FBDA173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4"/>
          <p:cNvGraphicFramePr/>
          <p:nvPr/>
        </p:nvGraphicFramePr>
        <p:xfrm>
          <a:off x="8077320" y="5978520"/>
          <a:ext cx="99036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5978520"/>
                    <a:ext cx="9903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43792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enter for Graphics and Geometric Computing, Techn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8152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D57-E368-4546-8E3E-F80EEF3880A3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24"/>
          <p:cNvGrpSpPr/>
          <p:nvPr/>
        </p:nvGrpSpPr>
        <p:grpSpPr>
          <a:xfrm>
            <a:off x="76320" y="76320"/>
            <a:ext cx="838080" cy="685440"/>
            <a:chOff x="76320" y="76320"/>
            <a:chExt cx="838080" cy="685440"/>
          </a:xfrm>
        </p:grpSpPr>
        <p:sp>
          <p:nvSpPr>
            <p:cNvPr id="8" name="Rectangle 19"/>
            <p:cNvSpPr/>
            <p:nvPr/>
          </p:nvSpPr>
          <p:spPr>
            <a:xfrm>
              <a:off x="299520" y="190440"/>
              <a:ext cx="318960" cy="356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  <p:sp>
          <p:nvSpPr>
            <p:cNvPr id="9" name="Rectangle 20"/>
            <p:cNvSpPr/>
            <p:nvPr/>
          </p:nvSpPr>
          <p:spPr>
            <a:xfrm>
              <a:off x="76320" y="190440"/>
              <a:ext cx="240480" cy="35604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ff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  <p:sp>
          <p:nvSpPr>
            <p:cNvPr id="10" name="Rectangle 23"/>
            <p:cNvSpPr/>
            <p:nvPr/>
          </p:nvSpPr>
          <p:spPr>
            <a:xfrm>
              <a:off x="411480" y="76320"/>
              <a:ext cx="410760" cy="3175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4d4d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  <p:sp>
          <p:nvSpPr>
            <p:cNvPr id="11" name="Rectangle 22"/>
            <p:cNvSpPr/>
            <p:nvPr/>
          </p:nvSpPr>
          <p:spPr>
            <a:xfrm>
              <a:off x="466200" y="361800"/>
              <a:ext cx="448200" cy="3999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</p:grpSp>
      <p:grpSp>
        <p:nvGrpSpPr>
          <p:cNvPr id="12" name="Group 32"/>
          <p:cNvGrpSpPr/>
          <p:nvPr/>
        </p:nvGrpSpPr>
        <p:grpSpPr>
          <a:xfrm>
            <a:off x="228600" y="152280"/>
            <a:ext cx="7086600" cy="1295640"/>
            <a:chOff x="228600" y="152280"/>
            <a:chExt cx="7086600" cy="1295640"/>
          </a:xfrm>
        </p:grpSpPr>
        <p:sp>
          <p:nvSpPr>
            <p:cNvPr id="13" name="Rectangle 27"/>
            <p:cNvSpPr/>
            <p:nvPr/>
          </p:nvSpPr>
          <p:spPr>
            <a:xfrm>
              <a:off x="228600" y="380880"/>
              <a:ext cx="708660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4d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  <p:sp>
          <p:nvSpPr>
            <p:cNvPr id="14" name="Rectangle 28"/>
            <p:cNvSpPr/>
            <p:nvPr/>
          </p:nvSpPr>
          <p:spPr>
            <a:xfrm>
              <a:off x="609480" y="152280"/>
              <a:ext cx="36360" cy="1295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4"/>
          <p:cNvGrpSpPr/>
          <p:nvPr/>
        </p:nvGrpSpPr>
        <p:grpSpPr>
          <a:xfrm>
            <a:off x="152280" y="76320"/>
            <a:ext cx="1143000" cy="914400"/>
            <a:chOff x="152280" y="76320"/>
            <a:chExt cx="1143000" cy="914400"/>
          </a:xfrm>
        </p:grpSpPr>
        <p:sp>
          <p:nvSpPr>
            <p:cNvPr id="52" name="Rectangle 15"/>
            <p:cNvSpPr/>
            <p:nvPr/>
          </p:nvSpPr>
          <p:spPr>
            <a:xfrm>
              <a:off x="456840" y="228600"/>
              <a:ext cx="438120" cy="474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152280" y="22860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ff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609480" y="7632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4d4d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685440" y="457200"/>
              <a:ext cx="609840" cy="533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00"/>
                </a:solidFill>
                <a:latin typeface="AvantGarde"/>
              </a:endParaRPr>
            </a:p>
          </p:txBody>
        </p:sp>
      </p:grpSp>
      <p:sp>
        <p:nvSpPr>
          <p:cNvPr id="56" name="Rectangle 19"/>
          <p:cNvSpPr/>
          <p:nvPr/>
        </p:nvSpPr>
        <p:spPr>
          <a:xfrm>
            <a:off x="457200" y="533520"/>
            <a:ext cx="708660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57" name="Rectangle 20"/>
          <p:cNvSpPr/>
          <p:nvPr/>
        </p:nvSpPr>
        <p:spPr>
          <a:xfrm flipH="1">
            <a:off x="762120" y="304920"/>
            <a:ext cx="55440" cy="563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3641760" y="438480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59" name="Object 31"/>
          <p:cNvGraphicFramePr/>
          <p:nvPr/>
        </p:nvGraphicFramePr>
        <p:xfrm>
          <a:off x="228600" y="5819760"/>
          <a:ext cx="5238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5819760"/>
                    <a:ext cx="5238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34" descr="csd"/>
          <p:cNvPicPr/>
          <p:nvPr/>
        </p:nvPicPr>
        <p:blipFill>
          <a:blip r:embed="rId5"/>
          <a:stretch/>
        </p:blipFill>
        <p:spPr>
          <a:xfrm>
            <a:off x="985680" y="5649840"/>
            <a:ext cx="71460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35"/>
          <p:cNvGraphicFramePr/>
          <p:nvPr/>
        </p:nvGraphicFramePr>
        <p:xfrm>
          <a:off x="7848720" y="5791320"/>
          <a:ext cx="990360" cy="87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" name="Object 3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48720" y="5791320"/>
                    <a:ext cx="9903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1392120" y="6276600"/>
            <a:ext cx="11988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0A28-5D7B-4A4B-AB9B-C8303F101CC8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1392120" y="627696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8E65-463A-464C-AB83-07E6314E09D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12" name="SculpText1"/>
          <p:cNvGraphicFramePr/>
          <p:nvPr/>
        </p:nvGraphicFramePr>
        <p:xfrm>
          <a:off x="1436760" y="1566720"/>
          <a:ext cx="70898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566720"/>
                    <a:ext cx="70898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69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F3DB-0F9B-482F-AB89-D169D57611E5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762120" y="531720"/>
            <a:ext cx="8381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Srfs SculpText Animation I</a:t>
            </a:r>
            <a:endParaRPr b="0" lang="en-US" sz="44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71" name="SculpText1"/>
          <p:cNvGraphicFramePr/>
          <p:nvPr/>
        </p:nvGraphicFramePr>
        <p:xfrm>
          <a:off x="496800" y="1508040"/>
          <a:ext cx="803448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508040"/>
                    <a:ext cx="80344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79E-E0B6-4371-ACE4-963F7345FE9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762120" y="531720"/>
            <a:ext cx="8381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Srfs SculpText Animation II</a:t>
            </a:r>
            <a:endParaRPr b="0" lang="en-US" sz="44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76" name="SculpText1"/>
          <p:cNvGraphicFramePr/>
          <p:nvPr/>
        </p:nvGraphicFramePr>
        <p:xfrm>
          <a:off x="496800" y="1508040"/>
          <a:ext cx="803448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508040"/>
                    <a:ext cx="80344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F386-2002-4219-A496-312F7E832134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569880" y="531720"/>
            <a:ext cx="85741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Srfs SculpText Animation III</a:t>
            </a:r>
            <a:endParaRPr b="0" lang="en-US" sz="44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81" name="SculpText1"/>
          <p:cNvGraphicFramePr/>
          <p:nvPr/>
        </p:nvGraphicFramePr>
        <p:xfrm>
          <a:off x="496800" y="1508040"/>
          <a:ext cx="803448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508040"/>
                    <a:ext cx="80344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1DC5-FEB4-44BA-A8DF-B78A932D23CA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762120" y="531720"/>
            <a:ext cx="8381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one is for you to try…</a:t>
            </a:r>
            <a:endParaRPr b="0" lang="en-US" sz="4400" spc="-1" strike="noStrike">
              <a:solidFill>
                <a:srgbClr val="ffcc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1392120" y="627696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F99D-DEEE-48A6-9BAD-DD1CA593A6A8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531720"/>
            <a:ext cx="8381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e SculpText Animation</a:t>
            </a:r>
            <a:endParaRPr b="0" lang="en-US" sz="4400" spc="-1" strike="noStrike">
              <a:solidFill>
                <a:srgbClr val="ffff00"/>
              </a:solidFill>
              <a:latin typeface="AvantGarde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880360" y="62452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vantGarde"/>
              </a:rPr>
              <a:t>Automatically activated animation</a:t>
            </a:r>
            <a:endParaRPr b="0" lang="en-US" sz="20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17" name="SculpText1"/>
          <p:cNvGraphicFramePr/>
          <p:nvPr/>
        </p:nvGraphicFramePr>
        <p:xfrm>
          <a:off x="1436760" y="1566720"/>
          <a:ext cx="70898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566720"/>
                    <a:ext cx="70898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389-F202-48B2-BF71-03AD9C1914C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66640" y="531720"/>
            <a:ext cx="85773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D SculpText Animation with Shadows</a:t>
            </a:r>
            <a:endParaRPr b="0" lang="en-US" sz="38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378160" y="6040440"/>
            <a:ext cx="45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vantGarde"/>
              </a:rPr>
              <a:t>Left-mouse-click activated animation</a:t>
            </a:r>
            <a:endParaRPr b="0" lang="en-US" sz="20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23" name="SculpText1"/>
          <p:cNvGraphicFramePr/>
          <p:nvPr/>
        </p:nvGraphicFramePr>
        <p:xfrm>
          <a:off x="1436760" y="1566720"/>
          <a:ext cx="70898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566720"/>
                    <a:ext cx="70898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D168-E30C-4F0A-9DC3-BD8B3F25BF0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762120" y="531720"/>
            <a:ext cx="838188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et another 3D SculpText Animation along a Spiral</a:t>
            </a:r>
            <a:endParaRPr b="0" lang="en-US" sz="3600" spc="-1" strike="noStrike">
              <a:solidFill>
                <a:srgbClr val="ffcc00"/>
              </a:solidFill>
              <a:latin typeface="AvantGarde"/>
            </a:endParaRPr>
          </a:p>
          <a:p>
            <a:pPr algn="ctr">
              <a:lnSpc>
                <a:spcPts val="33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nimation will start automatically after two seconds delay)</a:t>
            </a:r>
            <a:endParaRPr b="0" lang="en-US" sz="24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28" name="SculpText1"/>
          <p:cNvGraphicFramePr/>
          <p:nvPr/>
        </p:nvGraphicFramePr>
        <p:xfrm>
          <a:off x="1374840" y="1847880"/>
          <a:ext cx="622152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847880"/>
                    <a:ext cx="62215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6A5-9FB1-4C46-B44B-15DA55F6DA8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762120" y="531720"/>
            <a:ext cx="8381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ulpText Animation - General Font</a:t>
            </a:r>
            <a:r>
              <a:rPr b="0" lang="en-US" sz="2800" spc="-1" strike="noStrike">
                <a:solidFill>
                  <a:srgbClr val="ffcc00"/>
                </a:solidFill>
                <a:latin typeface="AvantGarde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33" name="SculpText1"/>
          <p:cNvGraphicFramePr/>
          <p:nvPr/>
        </p:nvGraphicFramePr>
        <p:xfrm>
          <a:off x="1436760" y="1566720"/>
          <a:ext cx="70898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566720"/>
                    <a:ext cx="70898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A81B-ECC0-45F4-B926-1FF72E6B8085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762120" y="414360"/>
            <a:ext cx="83818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  SculpText  Animations</a:t>
            </a:r>
            <a:endParaRPr b="0" lang="en-US" sz="4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982080" y="3075120"/>
            <a:ext cx="70815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 SculpText object could be placed in the same slide </a:t>
            </a:r>
            <a:endParaRPr b="0" lang="en-US" sz="2400" spc="-1" strike="noStrike">
              <a:solidFill>
                <a:srgbClr val="ffcc00"/>
              </a:solidFill>
              <a:latin typeface="AvantGarde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t animated (via left-mouse-click) one at a time</a:t>
            </a:r>
            <a:endParaRPr b="0" lang="en-US" sz="24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39" name="SculpText1"/>
          <p:cNvGraphicFramePr/>
          <p:nvPr/>
        </p:nvGraphicFramePr>
        <p:xfrm>
          <a:off x="1433520" y="1189080"/>
          <a:ext cx="8315280" cy="18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189080"/>
                    <a:ext cx="83152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SculpText2"/>
          <p:cNvGraphicFramePr/>
          <p:nvPr/>
        </p:nvGraphicFramePr>
        <p:xfrm>
          <a:off x="493560" y="3794040"/>
          <a:ext cx="7426440" cy="345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SculpText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560" y="3794040"/>
                    <a:ext cx="742644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DA1B-A1AE-4F56-A51E-D9A1F9554B81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62120" y="531720"/>
            <a:ext cx="8381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 Lingual SculpText Animation</a:t>
            </a:r>
            <a:endParaRPr b="0" lang="en-US" sz="4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240600" y="5526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866840" y="5491080"/>
            <a:ext cx="3896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e the multi-coloring mode,</a:t>
            </a:r>
            <a:endParaRPr b="0" lang="en-US" sz="2400" spc="-1" strike="noStrike">
              <a:solidFill>
                <a:srgbClr val="ffcc00"/>
              </a:solidFill>
              <a:latin typeface="AvantGarde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Hebrew!</a:t>
            </a:r>
            <a:endParaRPr b="0" lang="en-US" sz="2400" spc="-1" strike="noStrike">
              <a:solidFill>
                <a:srgbClr val="ffcc00"/>
              </a:solidFill>
              <a:latin typeface="AvantGarde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ssumes support of Hebrew font)</a:t>
            </a:r>
            <a:endParaRPr b="0" lang="en-US" sz="18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48" name="SculpText1"/>
          <p:cNvGraphicFramePr/>
          <p:nvPr/>
        </p:nvGraphicFramePr>
        <p:xfrm>
          <a:off x="334800" y="1430280"/>
          <a:ext cx="424836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430280"/>
                    <a:ext cx="42483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SculpText2"/>
          <p:cNvGraphicFramePr/>
          <p:nvPr/>
        </p:nvGraphicFramePr>
        <p:xfrm>
          <a:off x="4683240" y="1327320"/>
          <a:ext cx="4413240" cy="41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SculpText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240" y="1327320"/>
                    <a:ext cx="4413240" cy="41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C4C9-BBE4-453C-A1DA-005619B2685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762120" y="531720"/>
            <a:ext cx="8381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re Multi Lingual SculpText</a:t>
            </a:r>
            <a:endParaRPr b="0" lang="en-US" sz="4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240600" y="5526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844560" y="5705640"/>
            <a:ext cx="3222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 Korea!</a:t>
            </a:r>
            <a:endParaRPr b="0" lang="en-US" sz="2400" spc="-1" strike="noStrike">
              <a:solidFill>
                <a:srgbClr val="ffcc00"/>
              </a:solidFill>
              <a:latin typeface="AvantGarde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ssumes Korean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ial Unicode M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font)</a:t>
            </a:r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993920" y="5703840"/>
            <a:ext cx="32745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 China!</a:t>
            </a:r>
            <a:endParaRPr b="0" lang="en-US" sz="2400" spc="-1" strike="noStrike">
              <a:solidFill>
                <a:srgbClr val="ffcc00"/>
              </a:solidFill>
              <a:latin typeface="AvantGarde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ssumes Chinese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ial Unicode MS</a:t>
            </a:r>
            <a:r>
              <a:rPr b="0" lang="en-US" sz="1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nt)</a:t>
            </a:r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58" name="SculpText1"/>
          <p:cNvGraphicFramePr/>
          <p:nvPr/>
        </p:nvGraphicFramePr>
        <p:xfrm>
          <a:off x="304920" y="1449360"/>
          <a:ext cx="424800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9360"/>
                    <a:ext cx="42480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SculpText2"/>
          <p:cNvGraphicFramePr/>
          <p:nvPr/>
        </p:nvGraphicFramePr>
        <p:xfrm>
          <a:off x="4559400" y="1450800"/>
          <a:ext cx="4248000" cy="405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SculpText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9400" y="1450800"/>
                    <a:ext cx="42480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2438280" y="65530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vantGarde"/>
              </a:rPr>
              <a:t>Center for Graphics and Geometric Computing, Technion</a:t>
            </a:r>
            <a:endParaRPr b="0" lang="en-US" sz="1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8381880" y="657072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9F6F-2E0B-4286-B2B1-EA476C07AF9D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762120" y="531720"/>
            <a:ext cx="8381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Predefined SculpText Animations</a:t>
            </a:r>
            <a:endParaRPr b="0" lang="en-US" sz="4000" spc="-1" strike="noStrike">
              <a:solidFill>
                <a:srgbClr val="ffcc00"/>
              </a:solidFill>
              <a:latin typeface="AvantGarde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406800" y="5711760"/>
            <a:ext cx="8073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imation will start automatically after a two seconds delay.</a:t>
            </a:r>
            <a:endParaRPr b="0" lang="en-US" sz="2400" spc="-1" strike="noStrike">
              <a:solidFill>
                <a:srgbClr val="ffcc00"/>
              </a:solidFill>
              <a:latin typeface="AvantGarde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this animation the background color is also affected.</a:t>
            </a:r>
            <a:endParaRPr b="0" lang="en-US" sz="2400" spc="-1" strike="noStrike">
              <a:solidFill>
                <a:srgbClr val="ffcc00"/>
              </a:solidFill>
              <a:latin typeface="AvantGarde"/>
            </a:endParaRPr>
          </a:p>
        </p:txBody>
      </p:sp>
      <p:graphicFrame>
        <p:nvGraphicFramePr>
          <p:cNvPr id="166" name="SculpText1"/>
          <p:cNvGraphicFramePr/>
          <p:nvPr/>
        </p:nvGraphicFramePr>
        <p:xfrm>
          <a:off x="1436760" y="1566720"/>
          <a:ext cx="70898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SculpText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566720"/>
                    <a:ext cx="70898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06:51:11Z</dcterms:created>
  <dc:creator>Gershon Elber</dc:creator>
  <dc:description/>
  <dc:language>en-US</dc:language>
  <cp:lastModifiedBy>Gershon Elber</cp:lastModifiedBy>
  <dcterms:modified xsi:type="dcterms:W3CDTF">2008-08-31T04:49:36Z</dcterms:modified>
  <cp:revision>678</cp:revision>
  <dc:subject/>
  <dc:title>text Sculpting Demo</dc:title>
</cp:coreProperties>
</file>