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91E-356F-4459-819F-723330FA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C36-3F61-4841-8859-C51A00C8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1C2-4B8E-4098-A795-B97EB85A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A5F-25EC-428E-A741-573B6687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AC4-A739-48CE-BE3A-736AFFC5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893-55DB-4C66-B472-A4C6693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49E-BCB1-47CC-A2EF-C5F6731A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A64-9800-4DEF-84F0-0288CC74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538-1610-497F-8DFA-FDC08B80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BF9-49AE-411A-A260-C8D00E3A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291-E11A-4B75-BB99-968E489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0D5-CDE7-4F93-B36A-DB6C4218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B9E2-3F16-45DD-8B65-CC7676C0D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071800" y="928800"/>
            <a:ext cx="5000400" cy="5000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93760" y="984240"/>
            <a:ext cx="5015160" cy="308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2409840" y="3720960"/>
            <a:ext cx="43178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071800" y="928800"/>
            <a:ext cx="5000400" cy="50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030400" y="1535040"/>
            <a:ext cx="5002200" cy="2173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847600" y="60134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3"/>
          <a:stretch/>
        </p:blipFill>
        <p:spPr>
          <a:xfrm>
            <a:off x="2187720" y="4154400"/>
            <a:ext cx="4721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5:33:18Z</dcterms:created>
  <dc:creator>Gershon Elber</dc:creator>
  <dc:description/>
  <dc:language>en-US</dc:language>
  <cp:lastModifiedBy>gershon</cp:lastModifiedBy>
  <dcterms:modified xsi:type="dcterms:W3CDTF">2010-01-07T17:55:23Z</dcterms:modified>
  <cp:revision>3</cp:revision>
  <dc:subject/>
  <dc:title>Slide 1</dc:title>
</cp:coreProperties>
</file>